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7A21-B377-40B3-8A00-BB8D0494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405-B211-4E53-88B8-B1936C48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59A8-6170-4943-85CD-79BE85FA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FC9-CCE3-4AEE-9FEF-37AAC682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D50-CB03-480B-9D9C-254B304E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31A-18FF-4297-A1B0-0827C4DF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706-3504-44E9-B2B3-B9AB4458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64F4-4F1D-424B-A2EE-C423585F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C45-4263-4A35-8FBE-1911B6C2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F1E-DFA6-43E8-83A9-C84912E7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FBD-A463-4394-BE35-9CA81250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F51-704E-43DB-8D38-467D45B5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35F7-65C5-40C5-8DF7-3F4516982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yle Lau, Jacob Chism, Adrian Grijalva, Brandon Bl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19320" y="457200"/>
            <a:ext cx="64767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at Are Planets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Must Orbit around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Must have a mass of 0.055 or more (Earths Mas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Must have a diameter of 49528 (km) 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The average planet must have a gravity of 0.38 or more to surv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76520" y="22860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lanet Definitions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8991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91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152280"/>
          <a:ext cx="8794800" cy="631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87948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9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8763120" cy="705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763120" cy="705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8839080" cy="666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3908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189000"/>
          <a:ext cx="9144000" cy="666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2:03:01Z</dcterms:created>
  <dc:creator>mchamorro</dc:creator>
  <dc:description/>
  <dc:language>en-US</dc:language>
  <cp:lastModifiedBy>Lil lau</cp:lastModifiedBy>
  <dcterms:modified xsi:type="dcterms:W3CDTF">2011-02-14T19:00:27Z</dcterms:modified>
  <cp:revision>6</cp:revision>
  <dc:subject/>
  <dc:title>Slide 1</dc:title>
</cp:coreProperties>
</file>